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wmf" ContentType="image/x-wmf"/>
  <Override PartName="/ppt/media/image16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15.wmf" ContentType="image/x-wmf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570B7-9FF6-44D8-A87E-AF3C55267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FB5B9-56A9-4789-B2E7-AD4E26A5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B1518-2D7E-447B-81EA-B3C52778D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F63A6-76D4-4DA3-B563-90425269A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CB52-263F-421E-B068-85E54560A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4DEC-4060-4069-A648-FF82C6AE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6265-50ED-4BCF-9DA1-260B22E7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A1F3-90C0-4997-806B-1F07DB00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E322-3E70-45E9-B80F-42825E76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F370-C0A3-4984-932C-A4BEC11E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CA4D-37D2-4F38-8915-9A64E2FF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A8DFB-886B-4E93-9363-E41AEFD1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F866-3F71-49FD-975A-DFE544B4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E122-7CB5-4D83-8873-A73AEB83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3942-5644-4B7A-BE43-538E6163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92E2-A009-4509-AFA4-357434814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A7D4-9DE1-4BE5-8259-0E2C51463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23D41-1A72-4511-A8C8-B8CC3F8C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F8B55-7293-4ECC-81D6-F2BD33C5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62A86-9C43-4B7A-8369-49AEC085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C0804-0608-48E2-906D-B6DFEB21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AE080-8D85-42A6-8D44-FCBABBFE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B5FED-EB55-4E6C-BF5B-4353B957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2724E-16D5-40BC-8672-F2CF7862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71D6-748D-41D8-94DF-644CE90CC29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AD9C-933A-4009-BC30-2E55C2AF7957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12.xm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dfdef6"/>
                </a:solidFill>
                <a:latin typeface="Arial"/>
              </a:rPr>
              <a:t>WELCOME TO……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WHO WANTS TO B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AN A+ BUSINESS STUD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Unit 1 – Small Bus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ddie says, “More skills training required”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0" name="AutoShape 4">
            <a:hlinkClick r:id="" action="ppaction://hlinkshowjump?jump=firstslide"/>
          </p:cNvPr>
          <p:cNvSpPr/>
          <p:nvPr/>
        </p:nvSpPr>
        <p:spPr>
          <a:xfrm>
            <a:off x="7848720" y="59832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3348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ave locked in an incorrect answer!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haps you should have used a lifeli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back and have another go!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AutoShape 8">
            <a:hlinkClick r:id="" action="ppaction://hlinkshowjump?jump=previousslide"/>
          </p:cNvPr>
          <p:cNvSpPr/>
          <p:nvPr/>
        </p:nvSpPr>
        <p:spPr>
          <a:xfrm>
            <a:off x="7093080" y="342900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10800"/>
                </a:moveTo>
                <a:lnTo>
                  <a:pt x="21845" y="3794"/>
                </a:lnTo>
                <a:lnTo>
                  <a:pt x="21845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Eddie says, “Congratulations!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You are now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a D Accounting Stud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AutoShape 7">
            <a:hlinkClick r:id="" action="ppaction://hlinkshowjump?jump=nextslide"/>
          </p:cNvPr>
          <p:cNvSpPr/>
          <p:nvPr/>
        </p:nvSpPr>
        <p:spPr>
          <a:xfrm>
            <a:off x="7696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18888" y="10800"/>
                </a:lnTo>
                <a:lnTo>
                  <a:pt x="4875" y="17806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6" name="Picture 8" descr="MCj04420420000[1]"/>
          <p:cNvPicPr/>
          <p:nvPr/>
        </p:nvPicPr>
        <p:blipFill>
          <a:blip r:embed="rId1"/>
          <a:stretch/>
        </p:blipFill>
        <p:spPr>
          <a:xfrm>
            <a:off x="3851280" y="4724280"/>
            <a:ext cx="13003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QUESTION 4 :  D+ STUD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he contribution of cash by the owner would appear in which of the following journa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990720" y="3809880"/>
            <a:ext cx="5333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 General jour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990720" y="4419720"/>
            <a:ext cx="6553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 Cash payments jour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990720" y="5029200"/>
            <a:ext cx="7010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 Sales jour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7"/>
          <p:cNvSpPr/>
          <p:nvPr/>
        </p:nvSpPr>
        <p:spPr>
          <a:xfrm>
            <a:off x="990720" y="5715000"/>
            <a:ext cx="7391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 Cash receipts jour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AutoShape 9">
            <a:hlinkClick r:id="" action="ppaction://hlinkshowjump?jump=nextslide"/>
          </p:cNvPr>
          <p:cNvSpPr/>
          <p:nvPr/>
        </p:nvSpPr>
        <p:spPr>
          <a:xfrm>
            <a:off x="1295280" y="3886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AutoShape 10">
            <a:hlinkClick r:id="" action="ppaction://hlinkshowjump?jump=nextslide"/>
          </p:cNvPr>
          <p:cNvSpPr/>
          <p:nvPr/>
        </p:nvSpPr>
        <p:spPr>
          <a:xfrm>
            <a:off x="1295280" y="44956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AutoShape 11">
            <a:hlinkClick r:id="" action="ppaction://hlinkshowjump?jump=nextslide"/>
          </p:cNvPr>
          <p:cNvSpPr/>
          <p:nvPr/>
        </p:nvSpPr>
        <p:spPr>
          <a:xfrm>
            <a:off x="1295280" y="5105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AutoShape 12">
            <a:hlinkClick r:id="rId1" action="ppaction://hlinksldjump"/>
          </p:cNvPr>
          <p:cNvSpPr/>
          <p:nvPr/>
        </p:nvSpPr>
        <p:spPr>
          <a:xfrm>
            <a:off x="1295280" y="5791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ddie says, “Better luck next time”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8" name="AutoShape 5">
            <a:hlinkClick r:id="" action="ppaction://hlinkshowjump?jump=firstslide"/>
          </p:cNvPr>
          <p:cNvSpPr/>
          <p:nvPr/>
        </p:nvSpPr>
        <p:spPr>
          <a:xfrm>
            <a:off x="8001000" y="579132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901800" y="1857240"/>
            <a:ext cx="777240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ave locked in an incorrect answer!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haps you should have used a lifeli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back and have another go!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AutoShape 8">
            <a:hlinkClick r:id="rId5" action="ppaction://hlinksldjump"/>
          </p:cNvPr>
          <p:cNvSpPr/>
          <p:nvPr/>
        </p:nvSpPr>
        <p:spPr>
          <a:xfrm>
            <a:off x="7164360" y="3429000"/>
            <a:ext cx="792360" cy="5763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90" h="21600">
                <a:moveTo>
                  <a:pt x="0" y="0"/>
                </a:moveTo>
                <a:lnTo>
                  <a:pt x="29690" y="0"/>
                </a:lnTo>
                <a:lnTo>
                  <a:pt x="29690" y="21600"/>
                </a:lnTo>
                <a:lnTo>
                  <a:pt x="0" y="21600"/>
                </a:lnTo>
                <a:close/>
              </a:path>
              <a:path fill="lightenLess" w="29690" h="21600">
                <a:moveTo>
                  <a:pt x="0" y="0"/>
                </a:moveTo>
                <a:lnTo>
                  <a:pt x="29690" y="0"/>
                </a:lnTo>
                <a:lnTo>
                  <a:pt x="28290" y="1400"/>
                </a:lnTo>
                <a:lnTo>
                  <a:pt x="1400" y="1400"/>
                </a:lnTo>
                <a:close/>
              </a:path>
              <a:path fill="darken" w="29690" h="21600">
                <a:moveTo>
                  <a:pt x="29690" y="0"/>
                </a:moveTo>
                <a:lnTo>
                  <a:pt x="29690" y="21600"/>
                </a:lnTo>
                <a:lnTo>
                  <a:pt x="28290" y="20200"/>
                </a:lnTo>
                <a:lnTo>
                  <a:pt x="28290" y="1400"/>
                </a:lnTo>
                <a:close/>
              </a:path>
              <a:path fill="darkenLess" w="29690" h="21600">
                <a:moveTo>
                  <a:pt x="29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0" y="20200"/>
                </a:lnTo>
                <a:close/>
              </a:path>
              <a:path fill="lighten" w="29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0" h="21600">
                <a:moveTo>
                  <a:pt x="7838" y="10800"/>
                </a:moveTo>
                <a:lnTo>
                  <a:pt x="21851" y="3794"/>
                </a:lnTo>
                <a:lnTo>
                  <a:pt x="21851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Eddie says, “Congratulations!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You are now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a D+ Accounting Stud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3" name="Picture 4" descr="pe03166_"/>
          <p:cNvPicPr/>
          <p:nvPr/>
        </p:nvPicPr>
        <p:blipFill>
          <a:blip r:embed="rId1"/>
          <a:stretch/>
        </p:blipFill>
        <p:spPr>
          <a:xfrm>
            <a:off x="3809880" y="4876920"/>
            <a:ext cx="1965600" cy="1676160"/>
          </a:xfrm>
          <a:prstGeom prst="rect">
            <a:avLst/>
          </a:prstGeom>
          <a:ln w="0">
            <a:noFill/>
          </a:ln>
        </p:spPr>
      </p:pic>
      <p:sp>
        <p:nvSpPr>
          <p:cNvPr id="604" name="AutoShape 7">
            <a:hlinkClick r:id="" action="ppaction://hlinkshowjump?jump=nextslide"/>
          </p:cNvPr>
          <p:cNvSpPr/>
          <p:nvPr/>
        </p:nvSpPr>
        <p:spPr>
          <a:xfrm>
            <a:off x="7620120" y="57150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QUESTION 5 :  C STUD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6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Bob pays his rent $150 in advance. The double entry required would b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4"/>
          <p:cNvSpPr/>
          <p:nvPr/>
        </p:nvSpPr>
        <p:spPr>
          <a:xfrm>
            <a:off x="1066680" y="35812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 DR  Rent  CR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1066680" y="4267080"/>
            <a:ext cx="72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 DR Prepaid Rent  CR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6"/>
          <p:cNvSpPr/>
          <p:nvPr/>
        </p:nvSpPr>
        <p:spPr>
          <a:xfrm>
            <a:off x="1066680" y="4952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 DR Bank  CR Prepaid 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1066680" y="5638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3200" spc="-1" strike="noStrike">
                <a:solidFill>
                  <a:srgbClr val="ffffff"/>
                </a:solidFill>
                <a:latin typeface="Times New Roman"/>
              </a:rPr>
              <a:t>D. DR Bank  CR Accrued 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AutoShape 10">
            <a:hlinkClick r:id="" action="ppaction://hlinkshowjump?jump=nextslide"/>
          </p:cNvPr>
          <p:cNvSpPr/>
          <p:nvPr/>
        </p:nvSpPr>
        <p:spPr>
          <a:xfrm>
            <a:off x="1523880" y="3657600"/>
            <a:ext cx="433440" cy="45720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57200"/>
              <a:gd name="textAreaBottom" fmla="*/ 429120 h 457200"/>
            </a:gdLst>
            <a:ahLst/>
            <a:rect l="textAreaLeft" t="textAreaTop" r="textAreaRight" b="textAreaBottom"/>
            <a:pathLst>
              <a:path w="21600" h="22783">
                <a:moveTo>
                  <a:pt x="0" y="0"/>
                </a:moveTo>
                <a:lnTo>
                  <a:pt x="21600" y="0"/>
                </a:lnTo>
                <a:lnTo>
                  <a:pt x="21600" y="22783"/>
                </a:lnTo>
                <a:lnTo>
                  <a:pt x="0" y="22783"/>
                </a:lnTo>
                <a:close/>
              </a:path>
              <a:path fill="lightenLess" w="21600" h="22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83">
                <a:moveTo>
                  <a:pt x="21600" y="0"/>
                </a:moveTo>
                <a:lnTo>
                  <a:pt x="21600" y="22783"/>
                </a:lnTo>
                <a:lnTo>
                  <a:pt x="20200" y="21383"/>
                </a:lnTo>
                <a:lnTo>
                  <a:pt x="20200" y="1400"/>
                </a:lnTo>
                <a:close/>
              </a:path>
              <a:path fill="darkenLess" w="21600" h="22783">
                <a:moveTo>
                  <a:pt x="21600" y="22783"/>
                </a:moveTo>
                <a:lnTo>
                  <a:pt x="0" y="22783"/>
                </a:lnTo>
                <a:lnTo>
                  <a:pt x="1400" y="21383"/>
                </a:lnTo>
                <a:lnTo>
                  <a:pt x="20200" y="21383"/>
                </a:lnTo>
                <a:close/>
              </a:path>
              <a:path fill="lighten" w="21600" h="22783">
                <a:moveTo>
                  <a:pt x="0" y="22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83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AutoShape 11">
            <a:hlinkClick r:id="" action="ppaction://hlinkshowjump?jump=nextslide"/>
          </p:cNvPr>
          <p:cNvSpPr/>
          <p:nvPr/>
        </p:nvSpPr>
        <p:spPr>
          <a:xfrm>
            <a:off x="152388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AutoShape 12">
            <a:hlinkClick r:id="" action="ppaction://hlinkshowjump?jump=nextslide"/>
          </p:cNvPr>
          <p:cNvSpPr/>
          <p:nvPr/>
        </p:nvSpPr>
        <p:spPr>
          <a:xfrm>
            <a:off x="1523880" y="5715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AutoShape 13">
            <a:hlinkClick r:id="rId1" action="ppaction://hlinksldjump"/>
          </p:cNvPr>
          <p:cNvSpPr/>
          <p:nvPr/>
        </p:nvSpPr>
        <p:spPr>
          <a:xfrm>
            <a:off x="1523880" y="4267080"/>
            <a:ext cx="433440" cy="45720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57200"/>
              <a:gd name="textAreaBottom" fmla="*/ 429120 h 457200"/>
            </a:gdLst>
            <a:ahLst/>
            <a:rect l="textAreaLeft" t="textAreaTop" r="textAreaRight" b="textAreaBottom"/>
            <a:pathLst>
              <a:path w="21600" h="22783">
                <a:moveTo>
                  <a:pt x="0" y="0"/>
                </a:moveTo>
                <a:lnTo>
                  <a:pt x="21600" y="0"/>
                </a:lnTo>
                <a:lnTo>
                  <a:pt x="21600" y="22783"/>
                </a:lnTo>
                <a:lnTo>
                  <a:pt x="0" y="22783"/>
                </a:lnTo>
                <a:close/>
              </a:path>
              <a:path fill="lightenLess" w="21600" h="22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83">
                <a:moveTo>
                  <a:pt x="21600" y="0"/>
                </a:moveTo>
                <a:lnTo>
                  <a:pt x="21600" y="22783"/>
                </a:lnTo>
                <a:lnTo>
                  <a:pt x="20200" y="21383"/>
                </a:lnTo>
                <a:lnTo>
                  <a:pt x="20200" y="1400"/>
                </a:lnTo>
                <a:close/>
              </a:path>
              <a:path fill="darkenLess" w="21600" h="22783">
                <a:moveTo>
                  <a:pt x="21600" y="22783"/>
                </a:moveTo>
                <a:lnTo>
                  <a:pt x="0" y="22783"/>
                </a:lnTo>
                <a:lnTo>
                  <a:pt x="1400" y="21383"/>
                </a:lnTo>
                <a:lnTo>
                  <a:pt x="20200" y="21383"/>
                </a:lnTo>
                <a:close/>
              </a:path>
              <a:path fill="lighten" w="21600" h="22783">
                <a:moveTo>
                  <a:pt x="0" y="22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83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ddie says, “So close!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ould have phoned a friend – John Ellio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back and have another go!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AutoShape 4">
            <a:hlinkClick r:id="" action="ppaction://hlinkshowjump?jump=firstslide"/>
          </p:cNvPr>
          <p:cNvSpPr/>
          <p:nvPr/>
        </p:nvSpPr>
        <p:spPr>
          <a:xfrm>
            <a:off x="7315200" y="4952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9" h="21600">
                <a:moveTo>
                  <a:pt x="14840" y="3837"/>
                </a:moveTo>
                <a:lnTo>
                  <a:pt x="17416" y="6448"/>
                </a:lnTo>
                <a:lnTo>
                  <a:pt x="17416" y="4707"/>
                </a:lnTo>
                <a:lnTo>
                  <a:pt x="19191" y="4707"/>
                </a:lnTo>
                <a:lnTo>
                  <a:pt x="19191" y="8224"/>
                </a:lnTo>
                <a:lnTo>
                  <a:pt x="21803" y="10800"/>
                </a:lnTo>
                <a:lnTo>
                  <a:pt x="20149" y="10800"/>
                </a:lnTo>
                <a:lnTo>
                  <a:pt x="20149" y="17989"/>
                </a:lnTo>
                <a:lnTo>
                  <a:pt x="9530" y="17989"/>
                </a:lnTo>
                <a:lnTo>
                  <a:pt x="9530" y="10800"/>
                </a:lnTo>
                <a:lnTo>
                  <a:pt x="7877" y="10800"/>
                </a:lnTo>
                <a:close/>
              </a:path>
              <a:path fill="darkenLess" w="29679" h="21600">
                <a:moveTo>
                  <a:pt x="17416" y="6448"/>
                </a:moveTo>
                <a:lnTo>
                  <a:pt x="17416" y="4707"/>
                </a:lnTo>
                <a:lnTo>
                  <a:pt x="19191" y="4707"/>
                </a:lnTo>
                <a:lnTo>
                  <a:pt x="19191" y="8224"/>
                </a:lnTo>
                <a:close/>
              </a:path>
              <a:path fill="darkenLess" w="29679" h="21600">
                <a:moveTo>
                  <a:pt x="13917" y="14299"/>
                </a:moveTo>
                <a:lnTo>
                  <a:pt x="15762" y="14299"/>
                </a:lnTo>
                <a:lnTo>
                  <a:pt x="15762" y="17989"/>
                </a:lnTo>
                <a:lnTo>
                  <a:pt x="20149" y="17989"/>
                </a:lnTo>
                <a:lnTo>
                  <a:pt x="20149" y="10800"/>
                </a:lnTo>
                <a:lnTo>
                  <a:pt x="9530" y="10800"/>
                </a:lnTo>
                <a:lnTo>
                  <a:pt x="9530" y="17989"/>
                </a:lnTo>
                <a:lnTo>
                  <a:pt x="13917" y="17989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AutoShape 5">
            <a:hlinkClick r:id="rId3" action="ppaction://hlinksldjump"/>
          </p:cNvPr>
          <p:cNvSpPr/>
          <p:nvPr/>
        </p:nvSpPr>
        <p:spPr>
          <a:xfrm>
            <a:off x="6372360" y="306864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10800"/>
                </a:moveTo>
                <a:lnTo>
                  <a:pt x="21845" y="3794"/>
                </a:lnTo>
                <a:lnTo>
                  <a:pt x="21845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Eddie says, “Way to go!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You are now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a C Accounting Stud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AutoShape 1031">
            <a:hlinkClick r:id="" action="ppaction://hlinkshowjump?jump=nextslide"/>
          </p:cNvPr>
          <p:cNvSpPr/>
          <p:nvPr/>
        </p:nvSpPr>
        <p:spPr>
          <a:xfrm>
            <a:off x="7924680" y="57913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3794"/>
                </a:moveTo>
                <a:lnTo>
                  <a:pt x="24558" y="10800"/>
                </a:lnTo>
                <a:lnTo>
                  <a:pt x="10545" y="17806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2" name="Picture 1032" descr="MCj04326160000[1]"/>
          <p:cNvPicPr/>
          <p:nvPr/>
        </p:nvPicPr>
        <p:blipFill>
          <a:blip r:embed="rId1"/>
          <a:stretch/>
        </p:blipFill>
        <p:spPr>
          <a:xfrm>
            <a:off x="3635280" y="4724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QUESTION 6 :  C+ STUD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hat is the cost price entry for a Credit Sa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 Box 9"/>
          <p:cNvSpPr/>
          <p:nvPr/>
        </p:nvSpPr>
        <p:spPr>
          <a:xfrm>
            <a:off x="1143000" y="3124080"/>
            <a:ext cx="7086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 DR Stock Control; CR S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 Box 10"/>
          <p:cNvSpPr/>
          <p:nvPr/>
        </p:nvSpPr>
        <p:spPr>
          <a:xfrm>
            <a:off x="1143000" y="3962520"/>
            <a:ext cx="7238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 DR Debtors Control; CR Sa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Text Box 11"/>
          <p:cNvSpPr/>
          <p:nvPr/>
        </p:nvSpPr>
        <p:spPr>
          <a:xfrm>
            <a:off x="1219320" y="4876920"/>
            <a:ext cx="76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 DR Stock Control; CR Cost of S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Text Box 12"/>
          <p:cNvSpPr/>
          <p:nvPr/>
        </p:nvSpPr>
        <p:spPr>
          <a:xfrm>
            <a:off x="990720" y="5791320"/>
            <a:ext cx="76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 DR Cost of Sales; CR Stock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AutoShape 15">
            <a:hlinkClick r:id="" action="ppaction://hlinkshowjump?jump=nextslide"/>
          </p:cNvPr>
          <p:cNvSpPr/>
          <p:nvPr/>
        </p:nvSpPr>
        <p:spPr>
          <a:xfrm>
            <a:off x="1523880" y="32004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AutoShape 16">
            <a:hlinkClick r:id="" action="ppaction://hlinkshowjump?jump=nextslide"/>
          </p:cNvPr>
          <p:cNvSpPr/>
          <p:nvPr/>
        </p:nvSpPr>
        <p:spPr>
          <a:xfrm>
            <a:off x="1523880" y="40384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AutoShape 17">
            <a:hlinkClick r:id="" action="ppaction://hlinkshowjump?jump=nextslide"/>
          </p:cNvPr>
          <p:cNvSpPr/>
          <p:nvPr/>
        </p:nvSpPr>
        <p:spPr>
          <a:xfrm>
            <a:off x="1523880" y="48769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AutoShape 18">
            <a:hlinkClick r:id="rId1" action="ppaction://hlinksldjump"/>
          </p:cNvPr>
          <p:cNvSpPr/>
          <p:nvPr/>
        </p:nvSpPr>
        <p:spPr>
          <a:xfrm>
            <a:off x="1523880" y="57913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ddie says, “Ooops!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Sammy Newman would have got that one right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back and have another g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AutoShape 4">
            <a:hlinkClick r:id="" action="ppaction://hlinkshowjump?jump=firstslide"/>
          </p:cNvPr>
          <p:cNvSpPr/>
          <p:nvPr/>
        </p:nvSpPr>
        <p:spPr>
          <a:xfrm>
            <a:off x="7620120" y="54100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AutoShape 5">
            <a:hlinkClick r:id="rId3" action="ppaction://hlinksldjump"/>
          </p:cNvPr>
          <p:cNvSpPr/>
          <p:nvPr/>
        </p:nvSpPr>
        <p:spPr>
          <a:xfrm>
            <a:off x="6588000" y="3933720"/>
            <a:ext cx="792360" cy="5763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90" h="21600">
                <a:moveTo>
                  <a:pt x="0" y="0"/>
                </a:moveTo>
                <a:lnTo>
                  <a:pt x="29690" y="0"/>
                </a:lnTo>
                <a:lnTo>
                  <a:pt x="29690" y="21600"/>
                </a:lnTo>
                <a:lnTo>
                  <a:pt x="0" y="21600"/>
                </a:lnTo>
                <a:close/>
              </a:path>
              <a:path fill="lightenLess" w="29690" h="21600">
                <a:moveTo>
                  <a:pt x="0" y="0"/>
                </a:moveTo>
                <a:lnTo>
                  <a:pt x="29690" y="0"/>
                </a:lnTo>
                <a:lnTo>
                  <a:pt x="28290" y="1400"/>
                </a:lnTo>
                <a:lnTo>
                  <a:pt x="1400" y="1400"/>
                </a:lnTo>
                <a:close/>
              </a:path>
              <a:path fill="darken" w="29690" h="21600">
                <a:moveTo>
                  <a:pt x="29690" y="0"/>
                </a:moveTo>
                <a:lnTo>
                  <a:pt x="29690" y="21600"/>
                </a:lnTo>
                <a:lnTo>
                  <a:pt x="28290" y="20200"/>
                </a:lnTo>
                <a:lnTo>
                  <a:pt x="28290" y="1400"/>
                </a:lnTo>
                <a:close/>
              </a:path>
              <a:path fill="darkenLess" w="29690" h="21600">
                <a:moveTo>
                  <a:pt x="29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0" y="20200"/>
                </a:lnTo>
                <a:close/>
              </a:path>
              <a:path fill="lighten" w="29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0" h="21600">
                <a:moveTo>
                  <a:pt x="7838" y="10800"/>
                </a:moveTo>
                <a:lnTo>
                  <a:pt x="21851" y="3794"/>
                </a:lnTo>
                <a:lnTo>
                  <a:pt x="21851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dfdef6"/>
                </a:solidFill>
                <a:latin typeface="Arial"/>
              </a:rPr>
              <a:t>You need to answer 10 questions correctly to become an A+ student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You have three life 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380880" y="2133720"/>
            <a:ext cx="7315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1).  Phone a fri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1066680" y="2590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Picture 6" descr="Handset"/>
          <p:cNvPicPr/>
          <p:nvPr/>
        </p:nvPicPr>
        <p:blipFill>
          <a:blip r:embed="rId2"/>
          <a:stretch/>
        </p:blipFill>
        <p:spPr>
          <a:xfrm>
            <a:off x="3809880" y="2133720"/>
            <a:ext cx="1143000" cy="106200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8"/>
          <p:cNvSpPr/>
          <p:nvPr/>
        </p:nvSpPr>
        <p:spPr>
          <a:xfrm>
            <a:off x="304920" y="30481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2).  Ask the Aud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9" descr="pe02097_"/>
          <p:cNvPicPr/>
          <p:nvPr/>
        </p:nvPicPr>
        <p:blipFill>
          <a:blip r:embed="rId3"/>
          <a:stretch/>
        </p:blipFill>
        <p:spPr>
          <a:xfrm>
            <a:off x="4648320" y="2895480"/>
            <a:ext cx="2286000" cy="112392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11"/>
          <p:cNvSpPr/>
          <p:nvPr/>
        </p:nvSpPr>
        <p:spPr>
          <a:xfrm>
            <a:off x="457200" y="45720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3).  50 :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Picture 12" descr="Hr_glass"/>
          <p:cNvPicPr/>
          <p:nvPr/>
        </p:nvPicPr>
        <p:blipFill>
          <a:blip r:embed="rId4"/>
          <a:stretch/>
        </p:blipFill>
        <p:spPr>
          <a:xfrm>
            <a:off x="3200400" y="4267080"/>
            <a:ext cx="1128600" cy="121932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14"/>
          <p:cNvSpPr/>
          <p:nvPr/>
        </p:nvSpPr>
        <p:spPr>
          <a:xfrm>
            <a:off x="5029200" y="2286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Ask 1 person in the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15"/>
          <p:cNvSpPr/>
          <p:nvPr/>
        </p:nvSpPr>
        <p:spPr>
          <a:xfrm>
            <a:off x="6934320" y="2666880"/>
            <a:ext cx="190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Show of hands for each option from the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16"/>
          <p:cNvSpPr/>
          <p:nvPr/>
        </p:nvSpPr>
        <p:spPr>
          <a:xfrm>
            <a:off x="4572000" y="46483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Remove two incorrect ans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AutoShape 17">
            <a:hlinkClick r:id="" action="ppaction://hlinkshowjump?jump=nextslide"/>
          </p:cNvPr>
          <p:cNvSpPr/>
          <p:nvPr/>
        </p:nvSpPr>
        <p:spPr>
          <a:xfrm>
            <a:off x="7391520" y="5715000"/>
            <a:ext cx="1066680" cy="76212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3794"/>
                </a:moveTo>
                <a:lnTo>
                  <a:pt x="22120" y="10800"/>
                </a:lnTo>
                <a:lnTo>
                  <a:pt x="8107" y="17806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Eddie says, “Woo hoo!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You are now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a C+ Accounting Stud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AutoShape 7">
            <a:hlinkClick r:id="" action="ppaction://hlinkshowjump?jump=nextslide"/>
          </p:cNvPr>
          <p:cNvSpPr/>
          <p:nvPr/>
        </p:nvSpPr>
        <p:spPr>
          <a:xfrm>
            <a:off x="7391520" y="548640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4" h="21600">
                <a:moveTo>
                  <a:pt x="8411" y="3794"/>
                </a:moveTo>
                <a:lnTo>
                  <a:pt x="22424" y="10800"/>
                </a:lnTo>
                <a:lnTo>
                  <a:pt x="8411" y="17806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0" name="Picture 8" descr="MCj04348320000[1]"/>
          <p:cNvPicPr/>
          <p:nvPr/>
        </p:nvPicPr>
        <p:blipFill>
          <a:blip r:embed="rId1"/>
          <a:stretch/>
        </p:blipFill>
        <p:spPr>
          <a:xfrm>
            <a:off x="3419640" y="458136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QUESTION 7 :  B STUD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What type of transactions are recorded in the Credit Purchases Journ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914400" y="27432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 Cash purchase of st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5"/>
          <p:cNvSpPr/>
          <p:nvPr/>
        </p:nvSpPr>
        <p:spPr>
          <a:xfrm>
            <a:off x="914400" y="35812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dit purchase of non-current as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6"/>
          <p:cNvSpPr/>
          <p:nvPr/>
        </p:nvSpPr>
        <p:spPr>
          <a:xfrm>
            <a:off x="1508040" y="552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914400" y="44956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 Cash or credit purchase of st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8"/>
          <p:cNvSpPr/>
          <p:nvPr/>
        </p:nvSpPr>
        <p:spPr>
          <a:xfrm>
            <a:off x="990720" y="54100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 Credit purchase of St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AutoShape 10">
            <a:hlinkClick r:id="" action="ppaction://hlinkshowjump?jump=nextslide"/>
          </p:cNvPr>
          <p:cNvSpPr/>
          <p:nvPr/>
        </p:nvSpPr>
        <p:spPr>
          <a:xfrm>
            <a:off x="1295280" y="2743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AutoShape 11">
            <a:hlinkClick r:id="" action="ppaction://hlinkshowjump?jump=nextslide"/>
          </p:cNvPr>
          <p:cNvSpPr/>
          <p:nvPr/>
        </p:nvSpPr>
        <p:spPr>
          <a:xfrm>
            <a:off x="1295280" y="3581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AutoShape 12">
            <a:hlinkClick r:id="" action="ppaction://hlinkshowjump?jump=nextslide"/>
          </p:cNvPr>
          <p:cNvSpPr/>
          <p:nvPr/>
        </p:nvSpPr>
        <p:spPr>
          <a:xfrm>
            <a:off x="1295280" y="44956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AutoShape 13">
            <a:hlinkClick r:id="rId1" action="ppaction://hlinksldjump"/>
          </p:cNvPr>
          <p:cNvSpPr/>
          <p:nvPr/>
        </p:nvSpPr>
        <p:spPr>
          <a:xfrm>
            <a:off x="1295280" y="5562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ddie says, “Thanks for playing”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forget your accounting textbook on the way out… try reading i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back and have another go!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AutoShape 4">
            <a:hlinkClick r:id="" action="ppaction://hlinkshowjump?jump=firstslide"/>
          </p:cNvPr>
          <p:cNvSpPr/>
          <p:nvPr/>
        </p:nvSpPr>
        <p:spPr>
          <a:xfrm>
            <a:off x="7620120" y="495288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AutoShape 5">
            <a:hlinkClick r:id="rId3" action="ppaction://hlinksldjump"/>
          </p:cNvPr>
          <p:cNvSpPr/>
          <p:nvPr/>
        </p:nvSpPr>
        <p:spPr>
          <a:xfrm>
            <a:off x="6588000" y="3429000"/>
            <a:ext cx="792360" cy="5763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90" h="21600">
                <a:moveTo>
                  <a:pt x="0" y="0"/>
                </a:moveTo>
                <a:lnTo>
                  <a:pt x="29690" y="0"/>
                </a:lnTo>
                <a:lnTo>
                  <a:pt x="29690" y="21600"/>
                </a:lnTo>
                <a:lnTo>
                  <a:pt x="0" y="21600"/>
                </a:lnTo>
                <a:close/>
              </a:path>
              <a:path fill="lightenLess" w="29690" h="21600">
                <a:moveTo>
                  <a:pt x="0" y="0"/>
                </a:moveTo>
                <a:lnTo>
                  <a:pt x="29690" y="0"/>
                </a:lnTo>
                <a:lnTo>
                  <a:pt x="28290" y="1400"/>
                </a:lnTo>
                <a:lnTo>
                  <a:pt x="1400" y="1400"/>
                </a:lnTo>
                <a:close/>
              </a:path>
              <a:path fill="darken" w="29690" h="21600">
                <a:moveTo>
                  <a:pt x="29690" y="0"/>
                </a:moveTo>
                <a:lnTo>
                  <a:pt x="29690" y="21600"/>
                </a:lnTo>
                <a:lnTo>
                  <a:pt x="28290" y="20200"/>
                </a:lnTo>
                <a:lnTo>
                  <a:pt x="28290" y="1400"/>
                </a:lnTo>
                <a:close/>
              </a:path>
              <a:path fill="darkenLess" w="29690" h="21600">
                <a:moveTo>
                  <a:pt x="29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0" y="20200"/>
                </a:lnTo>
                <a:close/>
              </a:path>
              <a:path fill="lighten" w="29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0" h="21600">
                <a:moveTo>
                  <a:pt x="7838" y="10800"/>
                </a:moveTo>
                <a:lnTo>
                  <a:pt x="21851" y="3794"/>
                </a:lnTo>
                <a:lnTo>
                  <a:pt x="21851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Eddie says, “You’re on fire!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You are now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a B Accounting Stud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AutoShape 7">
            <a:hlinkClick r:id="" action="ppaction://hlinkshowjump?jump=nextslide"/>
          </p:cNvPr>
          <p:cNvSpPr/>
          <p:nvPr/>
        </p:nvSpPr>
        <p:spPr>
          <a:xfrm>
            <a:off x="7391520" y="53341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9" name="Picture 8" descr="MCj04240580000[1]"/>
          <p:cNvPicPr/>
          <p:nvPr/>
        </p:nvPicPr>
        <p:blipFill>
          <a:blip r:embed="rId1"/>
          <a:stretch/>
        </p:blipFill>
        <p:spPr>
          <a:xfrm>
            <a:off x="3564000" y="4508640"/>
            <a:ext cx="178740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QUESTION 8 :  B+ STUD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What would be the effect of the credit purchase of stock on the GST Liabili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914400" y="3657600"/>
            <a:ext cx="7772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 No effect on the 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5"/>
          <p:cNvSpPr/>
          <p:nvPr/>
        </p:nvSpPr>
        <p:spPr>
          <a:xfrm>
            <a:off x="914400" y="4572000"/>
            <a:ext cx="7772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 Would Increase the GST 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 Box 6"/>
          <p:cNvSpPr/>
          <p:nvPr/>
        </p:nvSpPr>
        <p:spPr>
          <a:xfrm>
            <a:off x="914400" y="5486400"/>
            <a:ext cx="746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 Would Decrease the GST 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7"/>
          <p:cNvSpPr/>
          <p:nvPr/>
        </p:nvSpPr>
        <p:spPr>
          <a:xfrm>
            <a:off x="914400" y="6172200"/>
            <a:ext cx="5791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 None of the abo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AutoShape 9">
            <a:hlinkClick r:id="" action="ppaction://hlinkshowjump?jump=nextslide"/>
          </p:cNvPr>
          <p:cNvSpPr/>
          <p:nvPr/>
        </p:nvSpPr>
        <p:spPr>
          <a:xfrm>
            <a:off x="137160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AutoShape 10">
            <a:hlinkClick r:id="" action="ppaction://hlinkshowjump?jump=nextslide"/>
          </p:cNvPr>
          <p:cNvSpPr/>
          <p:nvPr/>
        </p:nvSpPr>
        <p:spPr>
          <a:xfrm>
            <a:off x="137160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AutoShape 11"/>
          <p:cNvSpPr/>
          <p:nvPr/>
        </p:nvSpPr>
        <p:spPr>
          <a:xfrm>
            <a:off x="137160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AutoShape 12">
            <a:hlinkClick r:id="" action="ppaction://hlinkshowjump?jump=nextslide"/>
          </p:cNvPr>
          <p:cNvSpPr/>
          <p:nvPr/>
        </p:nvSpPr>
        <p:spPr>
          <a:xfrm>
            <a:off x="137160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ddie says, “Doh!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thinks you should review GST before the ex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back and have another g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AutoShape 4">
            <a:hlinkClick r:id="" action="ppaction://hlinkshowjump?jump=firstslide"/>
          </p:cNvPr>
          <p:cNvSpPr/>
          <p:nvPr/>
        </p:nvSpPr>
        <p:spPr>
          <a:xfrm>
            <a:off x="7467480" y="52578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11881" y="3837"/>
                </a:moveTo>
                <a:lnTo>
                  <a:pt x="14457" y="6448"/>
                </a:lnTo>
                <a:lnTo>
                  <a:pt x="14457" y="4707"/>
                </a:lnTo>
                <a:lnTo>
                  <a:pt x="16233" y="4707"/>
                </a:lnTo>
                <a:lnTo>
                  <a:pt x="16233" y="8224"/>
                </a:lnTo>
                <a:lnTo>
                  <a:pt x="18844" y="10800"/>
                </a:lnTo>
                <a:lnTo>
                  <a:pt x="17190" y="10800"/>
                </a:lnTo>
                <a:lnTo>
                  <a:pt x="17190" y="17989"/>
                </a:lnTo>
                <a:lnTo>
                  <a:pt x="6572" y="17989"/>
                </a:lnTo>
                <a:lnTo>
                  <a:pt x="6572" y="10800"/>
                </a:lnTo>
                <a:lnTo>
                  <a:pt x="4918" y="10800"/>
                </a:lnTo>
                <a:close/>
              </a:path>
              <a:path fill="darkenLess" w="23762" h="21600">
                <a:moveTo>
                  <a:pt x="14457" y="6448"/>
                </a:moveTo>
                <a:lnTo>
                  <a:pt x="14457" y="4707"/>
                </a:lnTo>
                <a:lnTo>
                  <a:pt x="16233" y="4707"/>
                </a:lnTo>
                <a:lnTo>
                  <a:pt x="16233" y="8224"/>
                </a:lnTo>
                <a:close/>
              </a:path>
              <a:path fill="darkenLess" w="23762" h="21600">
                <a:moveTo>
                  <a:pt x="10958" y="14299"/>
                </a:moveTo>
                <a:lnTo>
                  <a:pt x="12804" y="14299"/>
                </a:lnTo>
                <a:lnTo>
                  <a:pt x="12804" y="17989"/>
                </a:lnTo>
                <a:lnTo>
                  <a:pt x="17190" y="17989"/>
                </a:lnTo>
                <a:lnTo>
                  <a:pt x="17190" y="10800"/>
                </a:lnTo>
                <a:lnTo>
                  <a:pt x="6572" y="10800"/>
                </a:lnTo>
                <a:lnTo>
                  <a:pt x="6572" y="17989"/>
                </a:lnTo>
                <a:lnTo>
                  <a:pt x="10958" y="17989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AutoShape 5"/>
          <p:cNvSpPr/>
          <p:nvPr/>
        </p:nvSpPr>
        <p:spPr>
          <a:xfrm>
            <a:off x="6877080" y="328464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Eddie says, “You’re a Star!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You are now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a B+ Accounting Stud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AutoShape 7">
            <a:hlinkClick r:id="" action="ppaction://hlinkshowjump?jump=nextslide"/>
          </p:cNvPr>
          <p:cNvSpPr/>
          <p:nvPr/>
        </p:nvSpPr>
        <p:spPr>
          <a:xfrm>
            <a:off x="7696080" y="55627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7" name="Picture 8" descr="MCj04315590000[1]"/>
          <p:cNvPicPr/>
          <p:nvPr/>
        </p:nvPicPr>
        <p:blipFill>
          <a:blip r:embed="rId1"/>
          <a:stretch/>
        </p:blipFill>
        <p:spPr>
          <a:xfrm>
            <a:off x="3564000" y="4724280"/>
            <a:ext cx="17193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QUESTION 9 : A STUD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hat is the difference between recording in the General Ledger and recording in the Subsidiary Ledg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 Box 7"/>
          <p:cNvSpPr/>
          <p:nvPr/>
        </p:nvSpPr>
        <p:spPr>
          <a:xfrm>
            <a:off x="762120" y="2971800"/>
            <a:ext cx="7162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 There is no differ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8"/>
          <p:cNvSpPr/>
          <p:nvPr/>
        </p:nvSpPr>
        <p:spPr>
          <a:xfrm>
            <a:off x="914400" y="3733920"/>
            <a:ext cx="73152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 Subsidiary is recorded on individual transaction dates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as General ledger is recorded at end of peri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 Box 9"/>
          <p:cNvSpPr/>
          <p:nvPr/>
        </p:nvSpPr>
        <p:spPr>
          <a:xfrm>
            <a:off x="838080" y="4572000"/>
            <a:ext cx="6400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 Cross references in Subsidiary are not th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s in the General led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10"/>
          <p:cNvSpPr/>
          <p:nvPr/>
        </p:nvSpPr>
        <p:spPr>
          <a:xfrm>
            <a:off x="914400" y="5486400"/>
            <a:ext cx="7402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 Only credit transactions are recorded in Subsidiary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dg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AutoShape 12">
            <a:hlinkClick r:id="" action="ppaction://hlinkshowjump?jump=nextslide"/>
          </p:cNvPr>
          <p:cNvSpPr/>
          <p:nvPr/>
        </p:nvSpPr>
        <p:spPr>
          <a:xfrm>
            <a:off x="1295280" y="2971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AutoShape 13"/>
          <p:cNvSpPr/>
          <p:nvPr/>
        </p:nvSpPr>
        <p:spPr>
          <a:xfrm>
            <a:off x="1295280" y="3733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AutoShape 14">
            <a:hlinkClick r:id="" action="ppaction://hlinkshowjump?jump=nextslide"/>
          </p:cNvPr>
          <p:cNvSpPr/>
          <p:nvPr/>
        </p:nvSpPr>
        <p:spPr>
          <a:xfrm>
            <a:off x="1295280" y="4648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AutoShape 15">
            <a:hlinkClick r:id="" action="ppaction://hlinkshowjump?jump=nextslide"/>
          </p:cNvPr>
          <p:cNvSpPr/>
          <p:nvPr/>
        </p:nvSpPr>
        <p:spPr>
          <a:xfrm>
            <a:off x="129528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ddie says, “Bad luck!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nearly got there!  Better luck next tim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back and have another go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AutoShape 4">
            <a:hlinkClick r:id="" action="ppaction://hlinkshowjump?jump=firstslide"/>
          </p:cNvPr>
          <p:cNvSpPr/>
          <p:nvPr/>
        </p:nvSpPr>
        <p:spPr>
          <a:xfrm>
            <a:off x="7620120" y="55627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14848" y="3837"/>
                </a:moveTo>
                <a:lnTo>
                  <a:pt x="17425" y="6448"/>
                </a:lnTo>
                <a:lnTo>
                  <a:pt x="17425" y="4707"/>
                </a:lnTo>
                <a:lnTo>
                  <a:pt x="19200" y="4707"/>
                </a:lnTo>
                <a:lnTo>
                  <a:pt x="19200" y="8224"/>
                </a:lnTo>
                <a:lnTo>
                  <a:pt x="21811" y="10800"/>
                </a:lnTo>
                <a:lnTo>
                  <a:pt x="20158" y="10800"/>
                </a:lnTo>
                <a:lnTo>
                  <a:pt x="20158" y="17989"/>
                </a:lnTo>
                <a:lnTo>
                  <a:pt x="9539" y="17989"/>
                </a:lnTo>
                <a:lnTo>
                  <a:pt x="9539" y="10800"/>
                </a:lnTo>
                <a:lnTo>
                  <a:pt x="7885" y="10800"/>
                </a:lnTo>
                <a:close/>
              </a:path>
              <a:path fill="darkenLess" w="29697" h="21600">
                <a:moveTo>
                  <a:pt x="17425" y="6448"/>
                </a:moveTo>
                <a:lnTo>
                  <a:pt x="17425" y="4707"/>
                </a:lnTo>
                <a:lnTo>
                  <a:pt x="19200" y="4707"/>
                </a:lnTo>
                <a:lnTo>
                  <a:pt x="19200" y="8224"/>
                </a:lnTo>
                <a:close/>
              </a:path>
              <a:path fill="darkenLess" w="29697" h="21600">
                <a:moveTo>
                  <a:pt x="13926" y="14299"/>
                </a:moveTo>
                <a:lnTo>
                  <a:pt x="15771" y="14299"/>
                </a:lnTo>
                <a:lnTo>
                  <a:pt x="15771" y="17989"/>
                </a:lnTo>
                <a:lnTo>
                  <a:pt x="20158" y="17989"/>
                </a:lnTo>
                <a:lnTo>
                  <a:pt x="20158" y="10800"/>
                </a:lnTo>
                <a:lnTo>
                  <a:pt x="9539" y="10800"/>
                </a:lnTo>
                <a:lnTo>
                  <a:pt x="9539" y="17989"/>
                </a:lnTo>
                <a:lnTo>
                  <a:pt x="13926" y="17989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AutoShape 5"/>
          <p:cNvSpPr/>
          <p:nvPr/>
        </p:nvSpPr>
        <p:spPr>
          <a:xfrm>
            <a:off x="6588000" y="3933720"/>
            <a:ext cx="792360" cy="5763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90" h="21600">
                <a:moveTo>
                  <a:pt x="0" y="0"/>
                </a:moveTo>
                <a:lnTo>
                  <a:pt x="29690" y="0"/>
                </a:lnTo>
                <a:lnTo>
                  <a:pt x="29690" y="21600"/>
                </a:lnTo>
                <a:lnTo>
                  <a:pt x="0" y="21600"/>
                </a:lnTo>
                <a:close/>
              </a:path>
              <a:path fill="lightenLess" w="29690" h="21600">
                <a:moveTo>
                  <a:pt x="0" y="0"/>
                </a:moveTo>
                <a:lnTo>
                  <a:pt x="29690" y="0"/>
                </a:lnTo>
                <a:lnTo>
                  <a:pt x="28290" y="1400"/>
                </a:lnTo>
                <a:lnTo>
                  <a:pt x="1400" y="1400"/>
                </a:lnTo>
                <a:close/>
              </a:path>
              <a:path fill="darken" w="29690" h="21600">
                <a:moveTo>
                  <a:pt x="29690" y="0"/>
                </a:moveTo>
                <a:lnTo>
                  <a:pt x="29690" y="21600"/>
                </a:lnTo>
                <a:lnTo>
                  <a:pt x="28290" y="20200"/>
                </a:lnTo>
                <a:lnTo>
                  <a:pt x="28290" y="1400"/>
                </a:lnTo>
                <a:close/>
              </a:path>
              <a:path fill="darkenLess" w="29690" h="21600">
                <a:moveTo>
                  <a:pt x="29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0" y="20200"/>
                </a:lnTo>
                <a:close/>
              </a:path>
              <a:path fill="lighten" w="29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0" h="21600">
                <a:moveTo>
                  <a:pt x="7838" y="10800"/>
                </a:moveTo>
                <a:lnTo>
                  <a:pt x="21851" y="3794"/>
                </a:lnTo>
                <a:lnTo>
                  <a:pt x="21851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Eddie says, “What a big week its been in accounting!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You are now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an A Accounting Stud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AutoShape 7">
            <a:hlinkClick r:id="" action="ppaction://hlinkshowjump?jump=nextslide"/>
          </p:cNvPr>
          <p:cNvSpPr/>
          <p:nvPr/>
        </p:nvSpPr>
        <p:spPr>
          <a:xfrm>
            <a:off x="7848720" y="57150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23968" y="10800"/>
                </a:lnTo>
                <a:lnTo>
                  <a:pt x="9955" y="17806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5" name="Picture 8" descr="MCj03252540000[1]"/>
          <p:cNvPicPr/>
          <p:nvPr/>
        </p:nvPicPr>
        <p:blipFill>
          <a:blip r:embed="rId1"/>
          <a:stretch/>
        </p:blipFill>
        <p:spPr>
          <a:xfrm>
            <a:off x="3564000" y="4797360"/>
            <a:ext cx="180648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QUESTION 1 :  </a:t>
            </a:r>
            <a:r>
              <a:rPr b="0" i="1" lang="en-AU" sz="4400" spc="-1" strike="noStrike">
                <a:solidFill>
                  <a:srgbClr val="dfdef6"/>
                </a:solidFill>
                <a:latin typeface="Arial"/>
              </a:rPr>
              <a:t>E</a:t>
            </a: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 STUD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ich of the following is NOT a qualitative characteristic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1403280" y="2781360"/>
            <a:ext cx="365760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A. Relev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dfdef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1474560" y="3500280"/>
            <a:ext cx="3010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B. Compar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611280" y="4221000"/>
            <a:ext cx="371952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C. Us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1547640" y="4941720"/>
            <a:ext cx="4267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D. Understand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AutoShape 10">
            <a:hlinkClick r:id="" action="ppaction://hlinkshowjump?jump=nextslide"/>
          </p:cNvPr>
          <p:cNvSpPr/>
          <p:nvPr/>
        </p:nvSpPr>
        <p:spPr>
          <a:xfrm>
            <a:off x="971640" y="285264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AutoShape 11">
            <a:hlinkClick r:id="" action="ppaction://hlinkshowjump?jump=nextslide"/>
          </p:cNvPr>
          <p:cNvSpPr/>
          <p:nvPr/>
        </p:nvSpPr>
        <p:spPr>
          <a:xfrm>
            <a:off x="971640" y="357336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AutoShape 12">
            <a:hlinkClick r:id="" action="ppaction://hlinkshowjump?jump=nextslide"/>
          </p:cNvPr>
          <p:cNvSpPr/>
          <p:nvPr/>
        </p:nvSpPr>
        <p:spPr>
          <a:xfrm>
            <a:off x="971640" y="494172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AutoShape 13">
            <a:hlinkClick r:id="rId1" action="ppaction://hlinksldjump"/>
          </p:cNvPr>
          <p:cNvSpPr/>
          <p:nvPr/>
        </p:nvSpPr>
        <p:spPr>
          <a:xfrm>
            <a:off x="971640" y="429264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QUESTION 10: A+ STUD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77240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Which of the following is NOT a benefit of using Control accounts and Subsidiary reco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4"/>
          <p:cNvSpPr/>
          <p:nvPr/>
        </p:nvSpPr>
        <p:spPr>
          <a:xfrm>
            <a:off x="971640" y="2852640"/>
            <a:ext cx="60195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 Detection of err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 Box 5"/>
          <p:cNvSpPr/>
          <p:nvPr/>
        </p:nvSpPr>
        <p:spPr>
          <a:xfrm>
            <a:off x="971640" y="3573360"/>
            <a:ext cx="6400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 Allocation of Respons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 Box 6"/>
          <p:cNvSpPr/>
          <p:nvPr/>
        </p:nvSpPr>
        <p:spPr>
          <a:xfrm>
            <a:off x="971640" y="4365720"/>
            <a:ext cx="5029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 Easier Recor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7"/>
          <p:cNvSpPr/>
          <p:nvPr/>
        </p:nvSpPr>
        <p:spPr>
          <a:xfrm>
            <a:off x="971640" y="5084640"/>
            <a:ext cx="7467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 Ease of Repor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AutoShape 9">
            <a:hlinkClick r:id="" action="ppaction://hlinkshowjump?jump=nextslide"/>
          </p:cNvPr>
          <p:cNvSpPr/>
          <p:nvPr/>
        </p:nvSpPr>
        <p:spPr>
          <a:xfrm>
            <a:off x="1187280" y="285264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AutoShape 10">
            <a:hlinkClick r:id="" action="ppaction://hlinkshowjump?jump=nextslide"/>
          </p:cNvPr>
          <p:cNvSpPr/>
          <p:nvPr/>
        </p:nvSpPr>
        <p:spPr>
          <a:xfrm>
            <a:off x="1187280" y="35002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AutoShape 11"/>
          <p:cNvSpPr/>
          <p:nvPr/>
        </p:nvSpPr>
        <p:spPr>
          <a:xfrm>
            <a:off x="1187280" y="43657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AutoShape 12">
            <a:hlinkClick r:id="" action="ppaction://hlinkshowjump?jump=nextslide"/>
          </p:cNvPr>
          <p:cNvSpPr/>
          <p:nvPr/>
        </p:nvSpPr>
        <p:spPr>
          <a:xfrm>
            <a:off x="1187280" y="51577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ddie says, “You’re pretty good, but you’re no Nathan Buckley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s prepared to consider you in the next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back and have another g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AutoShape 4">
            <a:hlinkClick r:id="" action="ppaction://hlinkshowjump?jump=firstslide"/>
          </p:cNvPr>
          <p:cNvSpPr/>
          <p:nvPr/>
        </p:nvSpPr>
        <p:spPr>
          <a:xfrm>
            <a:off x="7391520" y="533412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5"/>
          <p:cNvSpPr/>
          <p:nvPr/>
        </p:nvSpPr>
        <p:spPr>
          <a:xfrm>
            <a:off x="6588000" y="3429000"/>
            <a:ext cx="792360" cy="5763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90" h="21600">
                <a:moveTo>
                  <a:pt x="0" y="0"/>
                </a:moveTo>
                <a:lnTo>
                  <a:pt x="29690" y="0"/>
                </a:lnTo>
                <a:lnTo>
                  <a:pt x="29690" y="21600"/>
                </a:lnTo>
                <a:lnTo>
                  <a:pt x="0" y="21600"/>
                </a:lnTo>
                <a:close/>
              </a:path>
              <a:path fill="lightenLess" w="29690" h="21600">
                <a:moveTo>
                  <a:pt x="0" y="0"/>
                </a:moveTo>
                <a:lnTo>
                  <a:pt x="29690" y="0"/>
                </a:lnTo>
                <a:lnTo>
                  <a:pt x="28290" y="1400"/>
                </a:lnTo>
                <a:lnTo>
                  <a:pt x="1400" y="1400"/>
                </a:lnTo>
                <a:close/>
              </a:path>
              <a:path fill="darken" w="29690" h="21600">
                <a:moveTo>
                  <a:pt x="29690" y="0"/>
                </a:moveTo>
                <a:lnTo>
                  <a:pt x="29690" y="21600"/>
                </a:lnTo>
                <a:lnTo>
                  <a:pt x="28290" y="20200"/>
                </a:lnTo>
                <a:lnTo>
                  <a:pt x="28290" y="1400"/>
                </a:lnTo>
                <a:close/>
              </a:path>
              <a:path fill="darkenLess" w="29690" h="21600">
                <a:moveTo>
                  <a:pt x="29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0" y="20200"/>
                </a:lnTo>
                <a:close/>
              </a:path>
              <a:path fill="lighten" w="29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0" h="21600">
                <a:moveTo>
                  <a:pt x="7838" y="10800"/>
                </a:moveTo>
                <a:lnTo>
                  <a:pt x="21851" y="3794"/>
                </a:lnTo>
                <a:lnTo>
                  <a:pt x="21851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Eddie says, “Congratulations!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68360" y="3499920"/>
            <a:ext cx="79264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55088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Eddie has appointed you   Financial Controller of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55088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Collingwood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2" name="Picture 6" descr="MCj04338860000[1]"/>
          <p:cNvPicPr/>
          <p:nvPr/>
        </p:nvPicPr>
        <p:blipFill>
          <a:blip r:embed="rId1"/>
          <a:stretch/>
        </p:blipFill>
        <p:spPr>
          <a:xfrm>
            <a:off x="6877080" y="148428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7"/>
          <p:cNvSpPr/>
          <p:nvPr/>
        </p:nvSpPr>
        <p:spPr>
          <a:xfrm>
            <a:off x="468360" y="1557360"/>
            <a:ext cx="62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You are now an </a:t>
            </a: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A+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 Accounting Stud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ddie says, “Bad luck!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ave locked in an incorrect answer!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haps you should have used a lifeli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back and have another go!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AutoShape 6">
            <a:hlinkClick r:id="" action="ppaction://hlinkshowjump?jump=firstslide"/>
          </p:cNvPr>
          <p:cNvSpPr/>
          <p:nvPr/>
        </p:nvSpPr>
        <p:spPr>
          <a:xfrm>
            <a:off x="7620120" y="57913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837"/>
                </a:moveTo>
                <a:lnTo>
                  <a:pt x="14728" y="6448"/>
                </a:ln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lnTo>
                  <a:pt x="19115" y="10800"/>
                </a:lnTo>
                <a:lnTo>
                  <a:pt x="17461" y="10800"/>
                </a:lnTo>
                <a:lnTo>
                  <a:pt x="17461" y="17989"/>
                </a:lnTo>
                <a:lnTo>
                  <a:pt x="6842" y="17989"/>
                </a:lnTo>
                <a:lnTo>
                  <a:pt x="6842" y="10800"/>
                </a:lnTo>
                <a:lnTo>
                  <a:pt x="5189" y="10800"/>
                </a:lnTo>
                <a:close/>
              </a:path>
              <a:path fill="darkenLess" w="24303" h="21600">
                <a:moveTo>
                  <a:pt x="14728" y="6448"/>
                </a:move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close/>
              </a:path>
              <a:path fill="darkenLess" w="24303" h="21600">
                <a:moveTo>
                  <a:pt x="11229" y="14299"/>
                </a:moveTo>
                <a:lnTo>
                  <a:pt x="13074" y="14299"/>
                </a:lnTo>
                <a:lnTo>
                  <a:pt x="13074" y="17989"/>
                </a:lnTo>
                <a:lnTo>
                  <a:pt x="17461" y="17989"/>
                </a:lnTo>
                <a:lnTo>
                  <a:pt x="17461" y="10800"/>
                </a:lnTo>
                <a:lnTo>
                  <a:pt x="6842" y="10800"/>
                </a:lnTo>
                <a:lnTo>
                  <a:pt x="6842" y="17989"/>
                </a:lnTo>
                <a:lnTo>
                  <a:pt x="11229" y="17989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AutoShape 7">
            <a:hlinkClick r:id="" action="ppaction://hlinkshowjump?jump=previousslide"/>
          </p:cNvPr>
          <p:cNvSpPr/>
          <p:nvPr/>
        </p:nvSpPr>
        <p:spPr>
          <a:xfrm>
            <a:off x="6948360" y="2852640"/>
            <a:ext cx="792360" cy="5763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90" h="21600">
                <a:moveTo>
                  <a:pt x="0" y="0"/>
                </a:moveTo>
                <a:lnTo>
                  <a:pt x="29690" y="0"/>
                </a:lnTo>
                <a:lnTo>
                  <a:pt x="29690" y="21600"/>
                </a:lnTo>
                <a:lnTo>
                  <a:pt x="0" y="21600"/>
                </a:lnTo>
                <a:close/>
              </a:path>
              <a:path fill="lightenLess" w="29690" h="21600">
                <a:moveTo>
                  <a:pt x="0" y="0"/>
                </a:moveTo>
                <a:lnTo>
                  <a:pt x="29690" y="0"/>
                </a:lnTo>
                <a:lnTo>
                  <a:pt x="28290" y="1400"/>
                </a:lnTo>
                <a:lnTo>
                  <a:pt x="1400" y="1400"/>
                </a:lnTo>
                <a:close/>
              </a:path>
              <a:path fill="darken" w="29690" h="21600">
                <a:moveTo>
                  <a:pt x="29690" y="0"/>
                </a:moveTo>
                <a:lnTo>
                  <a:pt x="29690" y="21600"/>
                </a:lnTo>
                <a:lnTo>
                  <a:pt x="28290" y="20200"/>
                </a:lnTo>
                <a:lnTo>
                  <a:pt x="28290" y="1400"/>
                </a:lnTo>
                <a:close/>
              </a:path>
              <a:path fill="darkenLess" w="29690" h="21600">
                <a:moveTo>
                  <a:pt x="29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0" y="20200"/>
                </a:lnTo>
                <a:close/>
              </a:path>
              <a:path fill="lighten" w="29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0" h="21600">
                <a:moveTo>
                  <a:pt x="7838" y="10800"/>
                </a:moveTo>
                <a:lnTo>
                  <a:pt x="21851" y="3794"/>
                </a:lnTo>
                <a:lnTo>
                  <a:pt x="21851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Eddie says, “Congratulations!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You are now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an E Accounting Stud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Will you risk this status to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try the next lev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AutoShape 7">
            <a:hlinkClick r:id="" action="ppaction://hlinkshowjump?jump=nextslide"/>
          </p:cNvPr>
          <p:cNvSpPr/>
          <p:nvPr/>
        </p:nvSpPr>
        <p:spPr>
          <a:xfrm>
            <a:off x="7238880" y="57150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3794"/>
                </a:moveTo>
                <a:lnTo>
                  <a:pt x="18790" y="10800"/>
                </a:lnTo>
                <a:lnTo>
                  <a:pt x="4777" y="17806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8" descr="MPj04228320000[1]"/>
          <p:cNvPicPr/>
          <p:nvPr/>
        </p:nvPicPr>
        <p:blipFill>
          <a:blip r:embed="rId1"/>
          <a:stretch/>
        </p:blipFill>
        <p:spPr>
          <a:xfrm rot="19475400">
            <a:off x="755280" y="4508280"/>
            <a:ext cx="101916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QUESTION 2 :  </a:t>
            </a:r>
            <a:r>
              <a:rPr b="0" i="1" lang="en-AU" sz="4400" spc="-1" strike="noStrike">
                <a:solidFill>
                  <a:srgbClr val="dfdef6"/>
                </a:solidFill>
                <a:latin typeface="Arial"/>
              </a:rPr>
              <a:t>E+</a:t>
            </a: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 STUD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ich Principle supports the Qualitative Characteristic of Rel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914400" y="35812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838080" y="3276720"/>
            <a:ext cx="563904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Reporting Peri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fdef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8"/>
          <p:cNvSpPr/>
          <p:nvPr/>
        </p:nvSpPr>
        <p:spPr>
          <a:xfrm>
            <a:off x="838080" y="38862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Going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9"/>
          <p:cNvSpPr/>
          <p:nvPr/>
        </p:nvSpPr>
        <p:spPr>
          <a:xfrm>
            <a:off x="1066680" y="540216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10"/>
          <p:cNvSpPr/>
          <p:nvPr/>
        </p:nvSpPr>
        <p:spPr>
          <a:xfrm>
            <a:off x="838080" y="45720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Historical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11"/>
          <p:cNvSpPr/>
          <p:nvPr/>
        </p:nvSpPr>
        <p:spPr>
          <a:xfrm>
            <a:off x="826920" y="530064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Conservat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AutoShape 13">
            <a:hlinkClick r:id="rId1" action="ppaction://hlinksldjump"/>
          </p:cNvPr>
          <p:cNvSpPr/>
          <p:nvPr/>
        </p:nvSpPr>
        <p:spPr>
          <a:xfrm>
            <a:off x="1295280" y="3352680"/>
            <a:ext cx="433440" cy="381240"/>
          </a:xfrm>
          <a:custGeom>
            <a:avLst/>
            <a:gdLst>
              <a:gd name="textAreaLeft" fmla="*/ 24480 w 433440"/>
              <a:gd name="textAreaRight" fmla="*/ 408960 w 4334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4555" h="21600">
                <a:moveTo>
                  <a:pt x="0" y="0"/>
                </a:moveTo>
                <a:lnTo>
                  <a:pt x="24555" y="0"/>
                </a:lnTo>
                <a:lnTo>
                  <a:pt x="24555" y="21600"/>
                </a:lnTo>
                <a:lnTo>
                  <a:pt x="0" y="21600"/>
                </a:lnTo>
                <a:close/>
              </a:path>
              <a:path fill="lightenLess" w="24555" h="21600">
                <a:moveTo>
                  <a:pt x="0" y="0"/>
                </a:moveTo>
                <a:lnTo>
                  <a:pt x="24555" y="0"/>
                </a:lnTo>
                <a:lnTo>
                  <a:pt x="23155" y="1400"/>
                </a:lnTo>
                <a:lnTo>
                  <a:pt x="1400" y="1400"/>
                </a:lnTo>
                <a:close/>
              </a:path>
              <a:path fill="darken" w="24555" h="21600">
                <a:moveTo>
                  <a:pt x="24555" y="0"/>
                </a:moveTo>
                <a:lnTo>
                  <a:pt x="24555" y="21600"/>
                </a:lnTo>
                <a:lnTo>
                  <a:pt x="23155" y="20200"/>
                </a:lnTo>
                <a:lnTo>
                  <a:pt x="23155" y="1400"/>
                </a:lnTo>
                <a:close/>
              </a:path>
              <a:path fill="darkenLess" w="24555" h="21600">
                <a:moveTo>
                  <a:pt x="24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55" y="20200"/>
                </a:lnTo>
                <a:close/>
              </a:path>
              <a:path fill="lighten" w="24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AutoShape 14">
            <a:hlinkClick r:id="rId2" action="ppaction://hlinksldjump"/>
          </p:cNvPr>
          <p:cNvSpPr/>
          <p:nvPr/>
        </p:nvSpPr>
        <p:spPr>
          <a:xfrm>
            <a:off x="1295280" y="3962520"/>
            <a:ext cx="457200" cy="357120"/>
          </a:xfrm>
          <a:custGeom>
            <a:avLst/>
            <a:gdLst>
              <a:gd name="textAreaLeft" fmla="*/ 23040 w 457200"/>
              <a:gd name="textAreaRight" fmla="*/ 434160 w 4572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6247" y="1400"/>
                </a:lnTo>
                <a:lnTo>
                  <a:pt x="1400" y="1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6247" y="20200"/>
                </a:lnTo>
                <a:lnTo>
                  <a:pt x="26247" y="1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47" y="20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AutoShape 15">
            <a:hlinkClick r:id="" action="ppaction://hlinkshowjump?jump=nextslide"/>
          </p:cNvPr>
          <p:cNvSpPr/>
          <p:nvPr/>
        </p:nvSpPr>
        <p:spPr>
          <a:xfrm>
            <a:off x="1295280" y="4648320"/>
            <a:ext cx="457200" cy="433440"/>
          </a:xfrm>
          <a:custGeom>
            <a:avLst/>
            <a:gdLst>
              <a:gd name="textAreaLeft" fmla="*/ 28080 w 457200"/>
              <a:gd name="textAreaRight" fmla="*/ 429120 w 4572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2783" h="21600">
                <a:moveTo>
                  <a:pt x="0" y="0"/>
                </a:moveTo>
                <a:lnTo>
                  <a:pt x="22783" y="0"/>
                </a:lnTo>
                <a:lnTo>
                  <a:pt x="22783" y="21600"/>
                </a:lnTo>
                <a:lnTo>
                  <a:pt x="0" y="21600"/>
                </a:lnTo>
                <a:close/>
              </a:path>
              <a:path fill="lightenLess" w="22783" h="21600">
                <a:moveTo>
                  <a:pt x="0" y="0"/>
                </a:moveTo>
                <a:lnTo>
                  <a:pt x="22783" y="0"/>
                </a:lnTo>
                <a:lnTo>
                  <a:pt x="21383" y="1400"/>
                </a:lnTo>
                <a:lnTo>
                  <a:pt x="1400" y="1400"/>
                </a:lnTo>
                <a:close/>
              </a:path>
              <a:path fill="darken" w="22783" h="21600">
                <a:moveTo>
                  <a:pt x="22783" y="0"/>
                </a:moveTo>
                <a:lnTo>
                  <a:pt x="22783" y="21600"/>
                </a:lnTo>
                <a:lnTo>
                  <a:pt x="21383" y="20200"/>
                </a:lnTo>
                <a:lnTo>
                  <a:pt x="21383" y="1400"/>
                </a:lnTo>
                <a:close/>
              </a:path>
              <a:path fill="darkenLess" w="22783" h="21600">
                <a:moveTo>
                  <a:pt x="22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83" y="20200"/>
                </a:lnTo>
                <a:close/>
              </a:path>
              <a:path fill="lighten" w="22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AutoShape 16">
            <a:hlinkClick r:id="rId3" action="ppaction://hlinksldjump"/>
          </p:cNvPr>
          <p:cNvSpPr/>
          <p:nvPr/>
        </p:nvSpPr>
        <p:spPr>
          <a:xfrm>
            <a:off x="1295280" y="5410080"/>
            <a:ext cx="433440" cy="45720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57200"/>
              <a:gd name="textAreaBottom" fmla="*/ 429120 h 457200"/>
            </a:gdLst>
            <a:ahLst/>
            <a:rect l="textAreaLeft" t="textAreaTop" r="textAreaRight" b="textAreaBottom"/>
            <a:pathLst>
              <a:path w="21600" h="22783">
                <a:moveTo>
                  <a:pt x="0" y="0"/>
                </a:moveTo>
                <a:lnTo>
                  <a:pt x="21600" y="0"/>
                </a:lnTo>
                <a:lnTo>
                  <a:pt x="21600" y="22783"/>
                </a:lnTo>
                <a:lnTo>
                  <a:pt x="0" y="22783"/>
                </a:lnTo>
                <a:close/>
              </a:path>
              <a:path fill="lightenLess" w="21600" h="22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83">
                <a:moveTo>
                  <a:pt x="21600" y="0"/>
                </a:moveTo>
                <a:lnTo>
                  <a:pt x="21600" y="22783"/>
                </a:lnTo>
                <a:lnTo>
                  <a:pt x="20200" y="21383"/>
                </a:lnTo>
                <a:lnTo>
                  <a:pt x="20200" y="1400"/>
                </a:lnTo>
                <a:close/>
              </a:path>
              <a:path fill="darkenLess" w="21600" h="22783">
                <a:moveTo>
                  <a:pt x="21600" y="22783"/>
                </a:moveTo>
                <a:lnTo>
                  <a:pt x="0" y="22783"/>
                </a:lnTo>
                <a:lnTo>
                  <a:pt x="1400" y="21383"/>
                </a:lnTo>
                <a:lnTo>
                  <a:pt x="20200" y="21383"/>
                </a:lnTo>
                <a:close/>
              </a:path>
              <a:path fill="lighten" w="21600" h="22783">
                <a:moveTo>
                  <a:pt x="0" y="22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83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Eddie says, “Well done!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You are now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an E+ Accounting Stud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AutoShape 7">
            <a:hlinkClick r:id="rId1" action="ppaction://hlinksldjump"/>
          </p:cNvPr>
          <p:cNvSpPr/>
          <p:nvPr/>
        </p:nvSpPr>
        <p:spPr>
          <a:xfrm>
            <a:off x="7315200" y="54864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3794"/>
                </a:moveTo>
                <a:lnTo>
                  <a:pt x="20203" y="10800"/>
                </a:lnTo>
                <a:lnTo>
                  <a:pt x="6190" y="17806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2" name="Picture 9" descr="MCj02974250000[1]"/>
          <p:cNvPicPr/>
          <p:nvPr/>
        </p:nvPicPr>
        <p:blipFill>
          <a:blip r:embed="rId2"/>
          <a:stretch/>
        </p:blipFill>
        <p:spPr>
          <a:xfrm>
            <a:off x="3132000" y="4653000"/>
            <a:ext cx="115596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ddie says, “Never mind..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4" name="AutoShape 4">
            <a:hlinkClick r:id="" action="ppaction://hlinkshowjump?jump=firstslide"/>
          </p:cNvPr>
          <p:cNvSpPr/>
          <p:nvPr/>
        </p:nvSpPr>
        <p:spPr>
          <a:xfrm>
            <a:off x="7543800" y="5562720"/>
            <a:ext cx="1066680" cy="838080"/>
          </a:xfrm>
          <a:custGeom>
            <a:avLst/>
            <a:gdLst>
              <a:gd name="textAreaLeft" fmla="*/ 54000 w 1066680"/>
              <a:gd name="textAreaRight" fmla="*/ 1012680 w 1066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9" h="21600">
                <a:moveTo>
                  <a:pt x="13745" y="3837"/>
                </a:moveTo>
                <a:lnTo>
                  <a:pt x="16321" y="6448"/>
                </a:lnTo>
                <a:lnTo>
                  <a:pt x="16321" y="4707"/>
                </a:lnTo>
                <a:lnTo>
                  <a:pt x="18096" y="4707"/>
                </a:lnTo>
                <a:lnTo>
                  <a:pt x="18096" y="8224"/>
                </a:lnTo>
                <a:lnTo>
                  <a:pt x="20708" y="10800"/>
                </a:lnTo>
                <a:lnTo>
                  <a:pt x="19054" y="10800"/>
                </a:lnTo>
                <a:lnTo>
                  <a:pt x="19054" y="17989"/>
                </a:lnTo>
                <a:lnTo>
                  <a:pt x="8435" y="17989"/>
                </a:lnTo>
                <a:lnTo>
                  <a:pt x="8435" y="10800"/>
                </a:lnTo>
                <a:lnTo>
                  <a:pt x="6782" y="10800"/>
                </a:lnTo>
                <a:close/>
              </a:path>
              <a:path fill="darkenLess" w="27489" h="21600">
                <a:moveTo>
                  <a:pt x="16321" y="6448"/>
                </a:moveTo>
                <a:lnTo>
                  <a:pt x="16321" y="4707"/>
                </a:lnTo>
                <a:lnTo>
                  <a:pt x="18096" y="4707"/>
                </a:lnTo>
                <a:lnTo>
                  <a:pt x="18096" y="8224"/>
                </a:lnTo>
                <a:close/>
              </a:path>
              <a:path fill="darkenLess" w="27489" h="21600">
                <a:moveTo>
                  <a:pt x="12822" y="14299"/>
                </a:moveTo>
                <a:lnTo>
                  <a:pt x="14667" y="14299"/>
                </a:lnTo>
                <a:lnTo>
                  <a:pt x="14667" y="17989"/>
                </a:lnTo>
                <a:lnTo>
                  <a:pt x="19054" y="17989"/>
                </a:lnTo>
                <a:lnTo>
                  <a:pt x="19054" y="10800"/>
                </a:lnTo>
                <a:lnTo>
                  <a:pt x="8435" y="10800"/>
                </a:lnTo>
                <a:lnTo>
                  <a:pt x="8435" y="17989"/>
                </a:lnTo>
                <a:lnTo>
                  <a:pt x="12822" y="17989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Rectangle 6"/>
          <p:cNvSpPr/>
          <p:nvPr/>
        </p:nvSpPr>
        <p:spPr>
          <a:xfrm>
            <a:off x="901800" y="1857240"/>
            <a:ext cx="777240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ave locked in an incorrect answer!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haps you should have used a lifeli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back and have another go!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AutoShape 7">
            <a:hlinkClick r:id="rId5" action="ppaction://hlinksldjump"/>
          </p:cNvPr>
          <p:cNvSpPr/>
          <p:nvPr/>
        </p:nvSpPr>
        <p:spPr>
          <a:xfrm>
            <a:off x="6372360" y="306864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10800"/>
                </a:moveTo>
                <a:lnTo>
                  <a:pt x="21845" y="3794"/>
                </a:lnTo>
                <a:lnTo>
                  <a:pt x="21845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QUESTION 3 :  D STUD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ich of the following does NOT form part of the definition of a L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9"/>
          <p:cNvSpPr/>
          <p:nvPr/>
        </p:nvSpPr>
        <p:spPr>
          <a:xfrm>
            <a:off x="1219320" y="4419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10"/>
          <p:cNvSpPr/>
          <p:nvPr/>
        </p:nvSpPr>
        <p:spPr>
          <a:xfrm>
            <a:off x="1295280" y="3200400"/>
            <a:ext cx="563904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A. Present Obli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2209680" y="3886200"/>
            <a:ext cx="609624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B. Future Economic Benef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fdef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13"/>
          <p:cNvSpPr/>
          <p:nvPr/>
        </p:nvSpPr>
        <p:spPr>
          <a:xfrm>
            <a:off x="4343400" y="43434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14"/>
          <p:cNvSpPr/>
          <p:nvPr/>
        </p:nvSpPr>
        <p:spPr>
          <a:xfrm>
            <a:off x="2209680" y="4724280"/>
            <a:ext cx="53341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C. Arising from past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fdef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15"/>
          <p:cNvSpPr/>
          <p:nvPr/>
        </p:nvSpPr>
        <p:spPr>
          <a:xfrm>
            <a:off x="2286000" y="5410080"/>
            <a:ext cx="6248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D. Which will result in an Outflow of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AutoShape 17">
            <a:hlinkClick r:id="" action="ppaction://hlinkshowjump?jump=nextslide"/>
          </p:cNvPr>
          <p:cNvSpPr/>
          <p:nvPr/>
        </p:nvSpPr>
        <p:spPr>
          <a:xfrm>
            <a:off x="152388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AutoShape 18">
            <a:hlinkClick r:id="" action="ppaction://hlinkshowjump?jump=nextslide"/>
          </p:cNvPr>
          <p:cNvSpPr/>
          <p:nvPr/>
        </p:nvSpPr>
        <p:spPr>
          <a:xfrm>
            <a:off x="1523880" y="4724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AutoShape 19">
            <a:hlinkClick r:id="" action="ppaction://hlinkshowjump?jump=nextslide"/>
          </p:cNvPr>
          <p:cNvSpPr/>
          <p:nvPr/>
        </p:nvSpPr>
        <p:spPr>
          <a:xfrm>
            <a:off x="1523880" y="5410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AutoShape 20">
            <a:hlinkClick r:id="rId1" action="ppaction://hlinksldjump"/>
          </p:cNvPr>
          <p:cNvSpPr/>
          <p:nvPr/>
        </p:nvSpPr>
        <p:spPr>
          <a:xfrm>
            <a:off x="1523880" y="3962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4T11:41:19Z</dcterms:created>
  <dc:creator>DoE</dc:creator>
  <dc:description/>
  <dc:language>en-US</dc:language>
  <cp:lastModifiedBy>Ernest Reichelt</cp:lastModifiedBy>
  <dcterms:modified xsi:type="dcterms:W3CDTF">2013-05-20T23:01:15Z</dcterms:modified>
  <cp:revision>46</cp:revision>
  <dc:subject/>
  <dc:title>WELCOME TO……</dc:title>
</cp:coreProperties>
</file>